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C8A2-5FF6-4BD6-8FE5-83E7FC22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3EF8-6B40-4292-9F31-65E2D0FC4B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B3BD-5DB6-4F60-8011-00F8A6CADE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9F6F-5CEA-4ECB-8C4A-CD76FF32A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3F9-92EA-4A81-9315-EDD81D50D4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2F6-4FCB-4367-8EC9-88B7B6D3A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3F16-AD4B-4C12-9A62-A80D4B5DB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67A-B0C2-43CC-AAB2-577373CB3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B547-0FB8-4E1A-A118-256284D11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50E5-B275-4AF7-A807-AC27530D6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9E1-8752-417F-9113-A8C84B480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E54-D35B-449C-BA9D-04466DA4F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47A-7AF4-4C8A-B63B-6CC62E02C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6BC-4346-4F4E-A187-81EDE54CD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CD3-530E-4C87-BBF1-A70ACBB4C9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A69-F6D5-487C-8AF7-3A3C92570A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F21-D6C4-4C17-A87E-6417C0E45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A4E2-265E-439C-8EE0-0901BB531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93F5-D6A7-4F4E-BFF1-40582DD92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9A5-C36F-46D8-8EEB-9941C1D5D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BA52-5B12-4E98-8DCF-C1A2EC58F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F7D-A85B-41F7-8EA6-5CCD7A865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76A-CBE8-4DB6-8B4F-087827C0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F6B-0D61-4536-9ED4-34E10BA7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6C9-AAE3-4F21-A6DE-2122CDF4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A1E-229A-4420-9FED-C0E6943D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82EB-F4C0-42E9-A4EE-280D28DB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B3FF-0232-48EE-958D-1D9486F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0557-164F-49C8-A3B7-FA7C4C76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666-26E2-45ED-8D97-998FFC1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C16-30E7-493D-9C05-B07D14F8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6DC3-7F38-4FA1-A494-20CA9B1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A70E-1DAD-46DB-94F8-F0E88E8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4C5-E105-4769-AF62-A0DB7C6A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D2F-973D-470B-98E0-30FB6AC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580-DF66-465C-8499-3E4B835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049-7BF4-4BC1-8069-EC6C717D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BB6-80BF-40DA-8BBB-CE7ADAA4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ED15-72E9-4EC8-B14B-C8A0F73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619-D2BE-4853-9875-61340E6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32E-0C18-499E-87D4-F62C93E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316-4F5D-46C3-95A2-F2244BD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0BA-C1C8-4E42-9EA0-0E3CC2F6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351-21D0-4A10-AC31-4D526669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305-6C24-4F96-9D36-BE4E7A6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009-F85F-46C9-8BFE-02114A4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8863-5021-464F-86CB-6751EF059C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B455-A30D-44AE-A023-4FB27C820E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04920" y="609120"/>
            <a:ext cx="864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Thirtee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stern Expansion and Slavery in the Territori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xas, the Mexican War, thoe Mormons, and The Compromise of 18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ST 21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2286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lavery in the Territories: 4 Propos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80880" y="990720"/>
            <a:ext cx="4114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04920" y="1066680"/>
            <a:ext cx="4800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already divi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riffs, internal improvements, abolition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Wilmot Prov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vid Wilm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e Soil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Extend Missouri Comp.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Wi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dwilmot"/>
          <p:cNvPicPr/>
          <p:nvPr/>
        </p:nvPicPr>
        <p:blipFill>
          <a:blip r:embed="rId1"/>
          <a:stretch/>
        </p:blipFill>
        <p:spPr>
          <a:xfrm>
            <a:off x="5715000" y="838080"/>
            <a:ext cx="27162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unit2_dbq"/>
          <p:cNvPicPr/>
          <p:nvPr/>
        </p:nvPicPr>
        <p:blipFill>
          <a:blip r:embed="rId2"/>
          <a:stretch/>
        </p:blipFill>
        <p:spPr>
          <a:xfrm>
            <a:off x="4381560" y="380052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lavery in the Territories: 4 Propos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04920" y="1143000"/>
            <a:ext cx="5029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Congress shouldn’t do any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uthern 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s’ Righ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houn and Dav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Popular Sovereig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wis C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the people dec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biguo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CassT"/>
          <p:cNvPicPr/>
          <p:nvPr/>
        </p:nvPicPr>
        <p:blipFill>
          <a:blip r:embed="rId1"/>
          <a:stretch/>
        </p:blipFill>
        <p:spPr>
          <a:xfrm>
            <a:off x="5638680" y="2666880"/>
            <a:ext cx="285444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lection of 184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990720"/>
            <a:ext cx="4724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gs: Zachary Tay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s: Lewis C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erty Party: Martin Van Buren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les Francis Ad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000000a2"/>
          <p:cNvPicPr/>
          <p:nvPr/>
        </p:nvPicPr>
        <p:blipFill>
          <a:blip r:embed="rId1"/>
          <a:stretch/>
        </p:blipFill>
        <p:spPr>
          <a:xfrm>
            <a:off x="3505320" y="2658960"/>
            <a:ext cx="56386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Developme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ifornia Gold Ru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4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 for law and or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ifornia petitions to join the U.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1" descr="stagecoach"/>
          <p:cNvPicPr/>
          <p:nvPr/>
        </p:nvPicPr>
        <p:blipFill>
          <a:blip r:embed="rId1"/>
          <a:stretch/>
        </p:blipFill>
        <p:spPr>
          <a:xfrm>
            <a:off x="5410080" y="1447920"/>
            <a:ext cx="302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28600" y="167652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mon 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uvo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eph Smith’s mur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t Lake 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mon migration, 1846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gham Yo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Developme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Thorpe81"/>
          <p:cNvPicPr/>
          <p:nvPr/>
        </p:nvPicPr>
        <p:blipFill>
          <a:blip r:embed="rId1"/>
          <a:stretch/>
        </p:blipFill>
        <p:spPr>
          <a:xfrm>
            <a:off x="5105520" y="19051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mr1pic1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oregon21"/>
          <p:cNvPicPr/>
          <p:nvPr/>
        </p:nvPicPr>
        <p:blipFill>
          <a:blip r:embed="rId1"/>
          <a:stretch/>
        </p:blipFill>
        <p:spPr>
          <a:xfrm>
            <a:off x="1371600" y="6094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westerntrails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Developme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as border dispute with New Mex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4" descr="1850f"/>
          <p:cNvPicPr/>
          <p:nvPr/>
        </p:nvPicPr>
        <p:blipFill>
          <a:blip r:embed="rId1"/>
          <a:stretch/>
        </p:blipFill>
        <p:spPr>
          <a:xfrm>
            <a:off x="685800" y="2057400"/>
            <a:ext cx="3002040" cy="419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1850ben"/>
          <p:cNvPicPr/>
          <p:nvPr/>
        </p:nvPicPr>
        <p:blipFill>
          <a:blip r:embed="rId2"/>
          <a:stretch/>
        </p:blipFill>
        <p:spPr>
          <a:xfrm>
            <a:off x="3733920" y="2057400"/>
            <a:ext cx="167796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1850bel"/>
          <p:cNvPicPr/>
          <p:nvPr/>
        </p:nvPicPr>
        <p:blipFill>
          <a:blip r:embed="rId3"/>
          <a:stretch/>
        </p:blipFill>
        <p:spPr>
          <a:xfrm>
            <a:off x="5562720" y="2133720"/>
            <a:ext cx="162396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1850cla"/>
          <p:cNvPicPr/>
          <p:nvPr/>
        </p:nvPicPr>
        <p:blipFill>
          <a:blip r:embed="rId4"/>
          <a:stretch/>
        </p:blipFill>
        <p:spPr>
          <a:xfrm>
            <a:off x="3809880" y="4572000"/>
            <a:ext cx="162396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2" descr="1850pea"/>
          <p:cNvPicPr/>
          <p:nvPr/>
        </p:nvPicPr>
        <p:blipFill>
          <a:blip r:embed="rId5"/>
          <a:stretch/>
        </p:blipFill>
        <p:spPr>
          <a:xfrm>
            <a:off x="5562720" y="4572000"/>
            <a:ext cx="1623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in New Mex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 Trade in Washington, D.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gitive Slav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ground railroad, Harriet Tub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ylor not inv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E NEEDED TO RESOLVE THESE ISSU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Developme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64520" y="1522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y Term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28600" y="735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x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am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ttle of San Jaci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nifest Dest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lifor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io Grande Ri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eaty of Guadalupe Hidal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pular sovereign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lifornia Gold Ru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igham You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ce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ephen Dougl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romise of 18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04920" y="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762120"/>
            <a:ext cx="5562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ry Clay’s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2600" indent="-28260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Voices make compromise seem doubtfu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7800" indent="-120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C. Calhoun: “the cords which bind…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7800" indent="-120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iel Webster: “hear me for my caus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7800" indent="-120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fferson Davis: no comprom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7800" indent="-120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m. Seward: slavery “radically wrong and essentially viciou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77800" indent="-120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8" descr="t029079a"/>
          <p:cNvPicPr/>
          <p:nvPr/>
        </p:nvPicPr>
        <p:blipFill>
          <a:blip r:embed="rId1"/>
          <a:stretch/>
        </p:blipFill>
        <p:spPr>
          <a:xfrm>
            <a:off x="4114800" y="3429000"/>
            <a:ext cx="50292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y gives up and goes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thern Convention-Nashvi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ylor 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lard Fill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 Doug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ittle Gian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lits legislation into individual bills and makes deals and alli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8" descr="186"/>
          <p:cNvPicPr/>
          <p:nvPr/>
        </p:nvPicPr>
        <p:blipFill>
          <a:blip r:embed="rId1"/>
          <a:stretch/>
        </p:blipFill>
        <p:spPr>
          <a:xfrm>
            <a:off x="5410080" y="990720"/>
            <a:ext cx="35895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=f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ah/NMex=territories are organized; popular sovereig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/NMex borders resolved; U.S. to pay Texas’ deb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 TRADE abolished in D.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sh Fugitive Slave Act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omp1850"/>
          <p:cNvPicPr/>
          <p:nvPr/>
        </p:nvPicPr>
        <p:blipFill>
          <a:blip r:embed="rId1"/>
          <a:stretch/>
        </p:blipFill>
        <p:spPr>
          <a:xfrm>
            <a:off x="990720" y="762120"/>
            <a:ext cx="7262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merican13_5"/>
          <p:cNvPicPr/>
          <p:nvPr/>
        </p:nvPicPr>
        <p:blipFill>
          <a:blip r:embed="rId1"/>
          <a:stretch/>
        </p:blipFill>
        <p:spPr>
          <a:xfrm>
            <a:off x="762120" y="685800"/>
            <a:ext cx="7981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920160" y="60948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 What factors influenced the creation of Texas and how did it come to be a state of the U.S.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What were some of the causes and effects of the U.S.-Mexican Wa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What are some other examples of the tension over slavery during the 1840s (aside from Texas- and Mexican relations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. What was the Compromise of 1850 and why did it come to pass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0880" y="762120"/>
            <a:ext cx="4572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ltural dif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i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cs/re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as Independence movement begi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santa-anna-1"/>
          <p:cNvPicPr/>
          <p:nvPr/>
        </p:nvPicPr>
        <p:blipFill>
          <a:blip r:embed="rId1"/>
          <a:stretch/>
        </p:blipFill>
        <p:spPr>
          <a:xfrm>
            <a:off x="5257800" y="76212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609480"/>
            <a:ext cx="6248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as’ Independence-18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la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li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ce!?!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alamo"/>
          <p:cNvPicPr/>
          <p:nvPr/>
        </p:nvPicPr>
        <p:blipFill>
          <a:blip r:embed="rId1"/>
          <a:stretch/>
        </p:blipFill>
        <p:spPr>
          <a:xfrm>
            <a:off x="1600200" y="2514600"/>
            <a:ext cx="5905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09480" y="2286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exican-American War (1846-1848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990720"/>
            <a:ext cx="3429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der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uth Carolinians in Mexico (Jalapa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tle of Buena V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pultepec &amp; Los N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ños Hero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The Storming of Chapultepec by Carl Nebel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846seige-at-veracruz"/>
          <p:cNvPicPr/>
          <p:nvPr/>
        </p:nvPicPr>
        <p:blipFill>
          <a:blip r:embed="rId1"/>
          <a:stretch/>
        </p:blipFill>
        <p:spPr>
          <a:xfrm>
            <a:off x="0" y="0"/>
            <a:ext cx="5334120" cy="33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oBVista2a-256"/>
          <p:cNvPicPr/>
          <p:nvPr/>
        </p:nvPicPr>
        <p:blipFill>
          <a:blip r:embed="rId2"/>
          <a:stretch/>
        </p:blipFill>
        <p:spPr>
          <a:xfrm>
            <a:off x="3657600" y="3278160"/>
            <a:ext cx="5486400" cy="3579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160" y="57150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ttle of Buena V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565600" y="63324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ege of Veracru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exicanwar"/>
          <p:cNvPicPr/>
          <p:nvPr/>
        </p:nvPicPr>
        <p:blipFill>
          <a:blip r:embed="rId1"/>
          <a:stretch/>
        </p:blipFill>
        <p:spPr>
          <a:xfrm>
            <a:off x="533520" y="16812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28600" y="685800"/>
            <a:ext cx="4114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Aftermath of the Mexican-American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eaty of Guadalupe Hidalgo (184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xican psyc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Nat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300px-Gadsden_Purchase_Cities"/>
          <p:cNvPicPr/>
          <p:nvPr/>
        </p:nvPicPr>
        <p:blipFill>
          <a:blip r:embed="rId1"/>
          <a:stretch/>
        </p:blipFill>
        <p:spPr>
          <a:xfrm>
            <a:off x="4648320" y="3657600"/>
            <a:ext cx="4495680" cy="27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Territory Transferred"/>
          <p:cNvPicPr/>
          <p:nvPr/>
        </p:nvPicPr>
        <p:blipFill>
          <a:blip r:embed="rId2"/>
          <a:stretch/>
        </p:blipFill>
        <p:spPr>
          <a:xfrm>
            <a:off x="4114800" y="162000"/>
            <a:ext cx="50292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J Franklin Williamson</cp:lastModifiedBy>
  <dcterms:modified xsi:type="dcterms:W3CDTF">2019-04-16T09:05:24Z</dcterms:modified>
  <cp:revision>88</cp:revision>
  <dc:subject/>
  <dc:title>The Early Republic</dc:title>
</cp:coreProperties>
</file>